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267-CBE7-465A-B743-C4B07184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7B9-62F1-4CDF-90C7-2B0D9D75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0F7-AD04-4643-9321-C33ADFBF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0E33-0DAF-4A22-99FF-D19FD38C4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5A0E-AC73-4365-8639-FF447FF9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8147A-0CCE-461E-B7C7-98BDB6FE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F65E-2D2F-4E47-BF74-6C780437B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527-C2D3-4DA6-9152-A6B53259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06B7-1A1B-409C-998B-EEACD45C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855D-2186-41C6-AE66-15C0DCD1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8C37-6A41-4AB5-9255-CE015916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E86-3721-4C7E-905D-CF4EF143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5D51-A35E-4836-AE23-33B025ED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DA08-3FF1-440E-BE9B-4C75FE58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DFDD-7566-4660-A5E6-363C3A94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5D61-13D9-41EC-9B82-D395D6A6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4E16-73A7-47A6-B7A6-78919DB5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9A15-D732-45E5-8630-D307330F1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BBB-D805-461A-9A87-D2CCFD55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00DC-F9D3-4066-B8FD-404C44A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FB9-1FCD-4A73-92C9-A42102B7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92A-311B-4974-9003-E0AEA703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12ED-5578-4650-92A2-1C1988E5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E2F-51A5-403B-A789-E4E7C2C7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1D0D-7EA4-4A78-A8C3-604E8A5AD0AF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42FA-7538-4012-A0D5-21946FDFB3E2}" type="slidenum">
              <a:rPr b="1" lang="sr-Latn-C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Дегенеративне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1" lang="sr-Latn-CS" sz="3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076720" y="5445000"/>
            <a:ext cx="338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оц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Др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Тања</a:t>
            </a:r>
            <a:r>
              <a:rPr b="0" lang="sr-Latn-C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6666"/>
                </a:solidFill>
                <a:latin typeface="Arial"/>
              </a:rPr>
              <a:t>Лукови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794880" y="794880"/>
            <a:ext cx="785844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57160" y="1214280"/>
            <a:ext cx="7693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еур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ондроц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аболич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атрик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ч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теоглик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укополисахарид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јалуронс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сел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теоглика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могућ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уж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пор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мпреси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ормациј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лу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бија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ог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ећ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фикас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л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PATOFIZIOLOGIJ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46083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Функција</a:t>
            </a:r>
            <a:r>
              <a:rPr b="1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хијалине</a:t>
            </a:r>
            <a:r>
              <a:rPr b="1" i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r>
              <a:rPr b="1" i="1" lang="sr-CS" sz="2400" spc="-1" strike="noStrike" u="sng">
                <a:solidFill>
                  <a:srgbClr val="003366"/>
                </a:solidFill>
                <a:uFillTx/>
                <a:latin typeface="Arial"/>
              </a:rPr>
              <a:t>хрскавице</a:t>
            </a:r>
            <a:r>
              <a:rPr b="1" lang="sl-SI" sz="2400" spc="-1" strike="noStrike" u="sng">
                <a:solidFill>
                  <a:srgbClr val="003366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васкуларн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неурална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лимфатич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суфицијенц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еактив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иперплаз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бхондралних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стеобласт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етаплаз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иновијалног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ки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Циклус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мпресиј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екомпресиј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14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770280" cy="4660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2871720" y="317016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TextBox 2"/>
          <p:cNvSpPr/>
          <p:nvPr/>
        </p:nvSpPr>
        <p:spPr>
          <a:xfrm>
            <a:off x="1476360" y="96984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042920" y="112536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042920" y="9079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042920" y="7650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ATOFIZIOLOGIJ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714240" y="260280"/>
            <a:ext cx="7940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3366"/>
                </a:solidFill>
                <a:latin typeface="Arial"/>
              </a:rPr>
              <a:t>Патофизиологија</a:t>
            </a: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3366"/>
                </a:solidFill>
                <a:latin typeface="Arial"/>
              </a:rPr>
              <a:t>остеоартроза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станк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орављ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ак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о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ал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чн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ов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ла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скавиц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ов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б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об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др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астуче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уг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нављ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тер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астич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уб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та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брил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ј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сур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роз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тана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атофиз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ровање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иц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алож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т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словљ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ницијал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в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утарњ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гр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L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љусп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лобађ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изозомалн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нз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азива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акц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бурниз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вич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теофи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ист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268360" y="981000"/>
            <a:ext cx="426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PATOGENEZA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699920" y="2349360"/>
            <a:ext cx="45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Biohemijski i metabolički proces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517680" y="4836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1050840" y="3389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84360" y="285264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sl-SI" sz="2000" spc="-1" strike="noStrike">
                <a:solidFill>
                  <a:srgbClr val="003366"/>
                </a:solidFill>
                <a:latin typeface="Arial"/>
              </a:rPr>
              <a:t>Narušena  ravnotež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AutoShape 12"/>
          <p:cNvSpPr/>
          <p:nvPr/>
        </p:nvSpPr>
        <p:spPr>
          <a:xfrm>
            <a:off x="4427640" y="5410080"/>
            <a:ext cx="2895480" cy="1447920"/>
          </a:xfrm>
          <a:prstGeom prst="irregularSeal2">
            <a:avLst/>
          </a:prstGeom>
          <a:gradFill rotWithShape="0">
            <a:gsLst>
              <a:gs pos="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3132000" y="3213000"/>
            <a:ext cx="609840" cy="533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4140360" y="3141720"/>
            <a:ext cx="533160" cy="9144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 rot="10800000">
            <a:off x="2124000" y="3715920"/>
            <a:ext cx="1447920" cy="685800"/>
          </a:xfrm>
          <a:prstGeom prst="pie">
            <a:avLst/>
          </a:prstGeom>
          <a:solidFill>
            <a:srgbClr val="00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 rot="10800000">
            <a:off x="4716000" y="3715920"/>
            <a:ext cx="1600200" cy="685800"/>
          </a:xfrm>
          <a:prstGeom prst="pi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2124000" y="3716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0000"/>
                </a:solidFill>
                <a:latin typeface="Arial"/>
              </a:rPr>
              <a:t>sintetičk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4572000" y="3645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ka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a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boličk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2124000" y="5373720"/>
            <a:ext cx="124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IL-1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G </a:t>
            </a: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E2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F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AutoShape 20"/>
          <p:cNvSpPr/>
          <p:nvPr/>
        </p:nvSpPr>
        <p:spPr>
          <a:xfrm>
            <a:off x="3276720" y="4869000"/>
            <a:ext cx="1873080" cy="549000"/>
          </a:xfrm>
          <a:custGeom>
            <a:avLst/>
            <a:gdLst>
              <a:gd name="textAreaLeft" fmla="*/ 356400 w 1873080"/>
              <a:gd name="textAreaRight" fmla="*/ 1213560 w 1873080"/>
              <a:gd name="textAreaTop" fmla="*/ 73440 h 549000"/>
              <a:gd name="textAreaBottom" fmla="*/ 4755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227" hR="21600" stAng="10800000" swAng="5400000"/>
                <a:lnTo>
                  <a:pt x="9881" y="0"/>
                </a:lnTo>
                <a:arcTo wR="8227" hR="21600" stAng="-5400000" swAng="2827746"/>
                <a:lnTo>
                  <a:pt x="21130" y="14400"/>
                </a:lnTo>
                <a:lnTo>
                  <a:pt x="17280" y="21600"/>
                </a:lnTo>
                <a:lnTo>
                  <a:pt x="12490" y="14400"/>
                </a:lnTo>
                <a:lnTo>
                  <a:pt x="15983" y="14400"/>
                </a:lnTo>
                <a:arcTo wR="8227" hR="21600" stAng="-2572254" swAng="-2695520"/>
                <a:lnTo>
                  <a:pt x="9054" y="109"/>
                </a:lnTo>
                <a:arcTo wR="8227" hR="21600" stAng="-5532226" swAng="-5267774"/>
                <a:close/>
              </a:path>
              <a:path fill="darkenLess" w="21600" h="21600">
                <a:moveTo>
                  <a:pt x="0" y="21600"/>
                </a:moveTo>
                <a:arcTo wR="8227" hR="21600" stAng="10800000" swAng="5400000"/>
                <a:lnTo>
                  <a:pt x="8227" y="0"/>
                </a:lnTo>
                <a:arcTo wR="8227" hR="21600" stAng="-5400000" swAng="132226"/>
                <a:lnTo>
                  <a:pt x="9054" y="109"/>
                </a:lnTo>
                <a:arcTo wR="8227" hR="21600" stAng="-5532226" swAng="-5267774"/>
                <a:close/>
              </a:path>
            </a:pathLst>
          </a:custGeom>
          <a:solidFill>
            <a:srgbClr val="00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2880360" y="587844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Hondroc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2360" y="72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togeneza osteoartroz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0" t="0" r="0" b="-915"/>
          <a:stretch/>
        </p:blipFill>
        <p:spPr>
          <a:xfrm>
            <a:off x="539640" y="1413000"/>
            <a:ext cx="4013280" cy="4752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3798720" cy="489564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768960" y="340200"/>
            <a:ext cx="78156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тадијуми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разлагања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хрскавиц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4300200"/>
            <a:ext cx="76932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драв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већа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омљивост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лагених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лака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мање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рој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ремећен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етаболиза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ондроци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9" descr="Copy of Picture 001"/>
          <p:cNvPicPr/>
          <p:nvPr/>
        </p:nvPicPr>
        <p:blipFill>
          <a:blip r:embed="rId1"/>
          <a:stretch/>
        </p:blipFill>
        <p:spPr>
          <a:xfrm>
            <a:off x="3203640" y="1700280"/>
            <a:ext cx="2232000" cy="244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Copy (2) of Picture 001"/>
          <p:cNvPicPr/>
          <p:nvPr/>
        </p:nvPicPr>
        <p:blipFill>
          <a:blip r:embed="rId2"/>
          <a:stretch/>
        </p:blipFill>
        <p:spPr>
          <a:xfrm>
            <a:off x="5580000" y="1700280"/>
            <a:ext cx="2556000" cy="2376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Picture 001"/>
          <p:cNvPicPr/>
          <p:nvPr/>
        </p:nvPicPr>
        <p:blipFill>
          <a:blip r:embed="rId3"/>
          <a:stretch/>
        </p:blipFill>
        <p:spPr>
          <a:xfrm>
            <a:off x="755640" y="1700280"/>
            <a:ext cx="2340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линич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ли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утар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мор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а слаб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орм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ких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ки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актив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иновити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патор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ет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2484360" y="162000"/>
            <a:ext cx="412128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1979640" y="0"/>
            <a:ext cx="54864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ИЈАГНОЗ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ОНАРТРОЗЕ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1413000"/>
            <a:ext cx="4572000" cy="64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линичк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лик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јективн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лаз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Лабораторијск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лаз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иографи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ЦТ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З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еђ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ЕМН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плер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рвних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дова</a:t>
            </a:r>
            <a:r>
              <a:rPr b="0" lang="sl-SI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3635280" y="256536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6300720" y="2565360"/>
            <a:ext cx="2438640" cy="2087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3"/>
          <a:stretch/>
        </p:blipFill>
        <p:spPr>
          <a:xfrm>
            <a:off x="6012000" y="4724280"/>
            <a:ext cx="24667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фини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де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тиологија,патогене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линичка сл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јагноза,ДД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Диференцијална дијагн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 у зглобу се смањује мировањем,а појачава са покрет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абораторија је у физиолошким границама (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SE,CRP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д запаљењског реуматизма је обрнут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113080" cy="63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91320" y="5482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6666"/>
                </a:solidFill>
                <a:latin typeface="Arial"/>
              </a:rPr>
              <a:t>ЛЕЧЕЊЕ</a:t>
            </a: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4400" spc="-1" strike="noStrike">
                <a:solidFill>
                  <a:srgbClr val="006666"/>
                </a:solidFill>
                <a:latin typeface="Arial"/>
              </a:rPr>
              <a:t>ГОНАРТРОЗЕ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4000" y="1571400"/>
            <a:ext cx="769284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brzim simptomatsk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Analgetic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NSAI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Antiartrotični lekovi sa simptomatskim sporim dejstvom (DMOAD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  = </a:t>
            </a: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SYSADO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Glukozam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Diacere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3366"/>
                </a:solidFill>
                <a:latin typeface="Arial"/>
              </a:rPr>
              <a:t>Hondroitin sulfat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                  S-Adenosil metioni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Hijaluronska kiselina               Rumal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GK                                          Artepar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3366"/>
                </a:solidFill>
                <a:latin typeface="Arial"/>
              </a:rPr>
              <a:t>Lekovi sa strukturno-modulatornim dejstv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proinflamatornih citokin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enz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Inhibicija azot oksid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Stimulacija anaboličkih procesa u hrskavic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66"/>
                </a:solidFill>
                <a:latin typeface="Arial"/>
              </a:rPr>
              <a:t>Reparacija površine hrskavice, celularna i th. citokinim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DIP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зглобов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(Noduli Heberdeni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диопатс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след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Же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менопаузал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дебља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а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тал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ланг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1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ст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црвенил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њ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ст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лагод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лен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(gonarthrosi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ели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дини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врши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сећ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еморотибиј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елофеморал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ремено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в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чешћ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троф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о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,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алотм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е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еллгренов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на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Терап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гон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р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зира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ктив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ад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ст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квалификација,штап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к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ектр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м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идр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ото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ератив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теотом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опласти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егенератив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бољ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азличит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тиологи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олошк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ме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натом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днос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мању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ункци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вод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пропор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змедј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сив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Етиолог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RP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апаљењск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цес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руш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скуларизац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аум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ојазн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шић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дисбалан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краћењ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шта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умор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линич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слик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о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по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три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ренделербур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ама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лексио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нтрак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троф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т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лутеус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гранич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кретљивос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сеудоабревац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репита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Лечење коксартроз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дукција ТТ,штап у супротној руц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а терапија,блокаде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Електротерапија,термотерапија,фототерапија, УЗ, магнетотерапија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еративно лечење: остеотомије,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PTC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Organization Chart 4"/>
          <p:cNvGrpSpPr/>
          <p:nvPr/>
        </p:nvGrpSpPr>
        <p:grpSpPr>
          <a:xfrm>
            <a:off x="179280" y="971280"/>
            <a:ext cx="8762760" cy="3940200"/>
            <a:chOff x="179280" y="971280"/>
            <a:chExt cx="8762760" cy="3940200"/>
          </a:xfrm>
        </p:grpSpPr>
        <p:cxnSp>
          <p:nvCxnSpPr>
            <p:cNvPr id="99" name="_s1028"/>
            <p:cNvCxnSpPr>
              <a:stCxn id="100" idx="0"/>
              <a:endCxn id="101" idx="5"/>
            </p:cNvCxnSpPr>
            <p:nvPr/>
          </p:nvCxnSpPr>
          <p:spPr>
            <a:xfrm flipV="1" rot="16200000">
              <a:off x="6189120" y="685440"/>
              <a:ext cx="676440" cy="39333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2" name="_s1029"/>
            <p:cNvCxnSpPr>
              <a:stCxn id="103" idx="0"/>
              <a:endCxn id="101" idx="4"/>
            </p:cNvCxnSpPr>
            <p:nvPr/>
          </p:nvCxnSpPr>
          <p:spPr>
            <a:xfrm flipV="1" rot="16200000">
              <a:off x="5517000" y="1357560"/>
              <a:ext cx="676440" cy="25894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4" name="_s1030"/>
            <p:cNvCxnSpPr>
              <a:stCxn id="105" idx="0"/>
              <a:endCxn id="101" idx="3"/>
            </p:cNvCxnSpPr>
            <p:nvPr/>
          </p:nvCxnSpPr>
          <p:spPr>
            <a:xfrm flipV="1" rot="16200000">
              <a:off x="4728240" y="2146320"/>
              <a:ext cx="676440" cy="101196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6" name="_s1031"/>
            <p:cNvCxnSpPr>
              <a:stCxn id="107" idx="0"/>
              <a:endCxn id="101" idx="2"/>
            </p:cNvCxnSpPr>
            <p:nvPr/>
          </p:nvCxnSpPr>
          <p:spPr>
            <a:xfrm flipH="1" flipV="1" rot="5400000">
              <a:off x="3951720" y="2380680"/>
              <a:ext cx="676440" cy="54324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08" name="_s1032"/>
            <p:cNvCxnSpPr>
              <a:stCxn id="109" idx="0"/>
              <a:endCxn id="101" idx="1"/>
            </p:cNvCxnSpPr>
            <p:nvPr/>
          </p:nvCxnSpPr>
          <p:spPr>
            <a:xfrm flipH="1" flipV="1" rot="5400000">
              <a:off x="3152880" y="1581840"/>
              <a:ext cx="676440" cy="214128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cxnSp>
          <p:nvCxnSpPr>
            <p:cNvPr id="110" name="_s1033"/>
            <p:cNvCxnSpPr>
              <a:stCxn id="111" idx="0"/>
              <a:endCxn id="101" idx="0"/>
            </p:cNvCxnSpPr>
            <p:nvPr/>
          </p:nvCxnSpPr>
          <p:spPr>
            <a:xfrm flipH="1" flipV="1" rot="5400000">
              <a:off x="2373120" y="802440"/>
              <a:ext cx="676440" cy="3699720"/>
            </a:xfrm>
            <a:prstGeom prst="bentConnector3">
              <a:avLst>
                <a:gd name="adj1" fmla="val 16879"/>
              </a:avLst>
            </a:prstGeom>
            <a:ln w="9360">
              <a:solidFill>
                <a:srgbClr val="003366"/>
              </a:solidFill>
              <a:miter/>
            </a:ln>
          </p:spPr>
        </p:cxnSp>
        <p:sp>
          <p:nvSpPr>
            <p:cNvPr id="101" name="_s1034"/>
            <p:cNvSpPr/>
            <p:nvPr/>
          </p:nvSpPr>
          <p:spPr>
            <a:xfrm>
              <a:off x="3638880" y="971280"/>
              <a:ext cx="1843560" cy="1343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cccc"/>
                </a:gs>
                <a:gs pos="50000">
                  <a:srgbClr val="ffffff"/>
                </a:gs>
                <a:gs pos="100000">
                  <a:srgbClr val="33cccc"/>
                </a:gs>
              </a:gsLst>
              <a:lin ang="8100000"/>
            </a:gradFill>
            <a:ln w="324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66"/>
                  </a:solidFill>
                  <a:latin typeface="Arial"/>
                </a:rPr>
                <a:t>REUMATI</a:t>
              </a: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ČNE 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700" spc="-1" strike="noStrike">
                  <a:solidFill>
                    <a:srgbClr val="003366"/>
                  </a:solidFill>
                  <a:latin typeface="Arial"/>
                </a:rPr>
                <a:t>BOLESTI</a:t>
              </a:r>
              <a:endParaRPr b="0" lang="en-US" sz="17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_s1035"/>
            <p:cNvSpPr/>
            <p:nvPr/>
          </p:nvSpPr>
          <p:spPr>
            <a:xfrm>
              <a:off x="179280" y="2990520"/>
              <a:ext cx="13629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Zapaljen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" name="_s1036"/>
            <p:cNvSpPr/>
            <p:nvPr/>
          </p:nvSpPr>
          <p:spPr>
            <a:xfrm>
              <a:off x="1692000" y="2990520"/>
              <a:ext cx="1457640" cy="1856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500" spc="-1" strike="noStrike">
                  <a:solidFill>
                    <a:srgbClr val="ff0000"/>
                  </a:solidFill>
                  <a:latin typeface="Arial"/>
                </a:rPr>
                <a:t>Degenerativne</a:t>
              </a:r>
              <a:endParaRPr b="0" lang="en-US" sz="15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7" name="_s1037"/>
            <p:cNvSpPr/>
            <p:nvPr/>
          </p:nvSpPr>
          <p:spPr>
            <a:xfrm>
              <a:off x="3299400" y="2990520"/>
              <a:ext cx="1438560" cy="1764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Vanzglobn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5" name="_s1038"/>
            <p:cNvSpPr/>
            <p:nvPr/>
          </p:nvSpPr>
          <p:spPr>
            <a:xfrm>
              <a:off x="4888080" y="2990520"/>
              <a:ext cx="1365840" cy="1827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Metabo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ičke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_s1039"/>
            <p:cNvSpPr/>
            <p:nvPr/>
          </p:nvSpPr>
          <p:spPr>
            <a:xfrm>
              <a:off x="6404040" y="2990520"/>
              <a:ext cx="1490400" cy="19209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U toku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bolest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drugih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_s1040"/>
            <p:cNvSpPr/>
            <p:nvPr/>
          </p:nvSpPr>
          <p:spPr>
            <a:xfrm>
              <a:off x="8044560" y="2990520"/>
              <a:ext cx="897480" cy="13514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99cc99"/>
                </a:gs>
                <a:gs pos="50000">
                  <a:srgbClr val="ffffff"/>
                </a:gs>
                <a:gs pos="100000">
                  <a:srgbClr val="99cc99"/>
                </a:gs>
              </a:gsLst>
              <a:lin ang="8100000"/>
            </a:gradFill>
            <a:ln w="32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Ređ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poremećaji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lokomot 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300" spc="-1" strike="noStrike">
                  <a:solidFill>
                    <a:srgbClr val="003366"/>
                  </a:solidFill>
                  <a:latin typeface="Arial"/>
                </a:rPr>
                <a:t>sistema</a:t>
              </a:r>
              <a:endParaRPr b="0" lang="en-US" sz="1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Rhisartro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CMCP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шак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то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коч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слабље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ис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DG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глед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Rt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Th: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дикамент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рал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окал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изик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незитерапиј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з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емис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2" descr="Lak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1752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skustva u primeni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ast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Comic Sans MS"/>
              </a:rPr>
              <a:t>GELADRINK® Fort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7" name="Picture 2" descr="Lake"/>
          <p:cNvPicPr/>
          <p:nvPr/>
        </p:nvPicPr>
        <p:blipFill>
          <a:blip r:embed="rId2"/>
          <a:stretch/>
        </p:blipFill>
        <p:spPr>
          <a:xfrm>
            <a:off x="0" y="54000"/>
            <a:ext cx="9360000" cy="70200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216000" y="198900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"/>
          <p:cNvPicPr/>
          <p:nvPr/>
        </p:nvPicPr>
        <p:blipFill>
          <a:blip r:embed="rId1"/>
          <a:stretch/>
        </p:blipFill>
        <p:spPr>
          <a:xfrm>
            <a:off x="1285920" y="142920"/>
            <a:ext cx="59292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Остеоартроза</a:t>
            </a:r>
            <a:r>
              <a:rPr b="1" lang="sr-Latn-C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је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распрострањен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озбиљна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болест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42920" y="270792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јчешћ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зрок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оловањ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нвалидских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ензиј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чињ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к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30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.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већање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живот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б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пулаци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ст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број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50-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ишњак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80%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д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65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о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74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годин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90%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лели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гађ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мла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портист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љу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тешк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физичк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слов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љу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и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јвиш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радног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ремена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роводе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едећем</a:t>
            </a:r>
            <a:r>
              <a:rPr b="0" lang="sr-Latn-C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ложај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99280" y="40536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ДЕФИНИЦИЈА</a:t>
            </a:r>
            <a:r>
              <a:rPr b="1" lang="sl-SI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5092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39640" y="2565360"/>
            <a:ext cx="81536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Артроз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дегенератив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бољењ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ој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почињ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ној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хрскавиц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ахватај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један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виш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екстремитет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кичм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и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утичу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пшт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стање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организма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3366"/>
                </a:solidFill>
                <a:latin typeface="Arial"/>
              </a:rPr>
              <a:t>63% (</a:t>
            </a:r>
            <a:r>
              <a:rPr b="0" lang="sr-CS" sz="2400" spc="-1" strike="noStrike">
                <a:solidFill>
                  <a:srgbClr val="003366"/>
                </a:solidFill>
                <a:latin typeface="Arial"/>
              </a:rPr>
              <a:t>запаљењски 16%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4643280" y="3933720"/>
            <a:ext cx="324036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Подел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остео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мар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енуи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словљ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рмал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дра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нормалн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екундарн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зроц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пољашњим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факторим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;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хрскави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ормал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адра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ненормалан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стапенк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Локализација</a:t>
            </a:r>
            <a:r>
              <a:rPr b="1" lang="sr-Latn-C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6666"/>
                </a:solidFill>
                <a:latin typeface="Arial"/>
              </a:rPr>
              <a:t>артроз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DIP (Noduli Heberdeni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а (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gon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ук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cox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CMCP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алц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rhisartr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Артроз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ичменог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уб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spondylo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796320" y="590040"/>
            <a:ext cx="7842600" cy="56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Узроци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6666"/>
                </a:solidFill>
                <a:latin typeface="Arial"/>
              </a:rPr>
              <a:t>остеоартрозе</a:t>
            </a:r>
            <a:r>
              <a:rPr b="1" lang="sr-Latn-CS" sz="32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00000" y="836280"/>
            <a:ext cx="76932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Генетск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диспозициј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ремећај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етаболиз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терано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ломо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Микротраум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Упал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греш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стављеност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РПК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ру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л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валгус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коле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екомерн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теж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Оптерећење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зглобова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(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ринудн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положај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Старењ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олести</a:t>
            </a:r>
            <a:r>
              <a:rPr b="0" lang="sr-Latn-C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бубрег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3366"/>
                </a:solidFill>
                <a:latin typeface="Arial"/>
              </a:rPr>
              <a:t>Исхра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2-04-23T06:57:11Z</dcterms:modified>
  <cp:revision>142</cp:revision>
  <dc:subject/>
  <dc:title>PowerPoint Presentation</dc:title>
</cp:coreProperties>
</file>